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EEF-5AF4-44A2-9481-452466E0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9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280" y="3755880"/>
            <a:ext cx="7769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0AE-716F-4758-BBC2-1E338697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28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6052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A15-60C4-4607-8DD3-1B20B136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5840" y="176796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2760" y="176796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280" y="375588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5840" y="375588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2760" y="375588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4653-7AFE-46D4-B88D-2071FB00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BF50-2D3C-457D-AE3D-F5AB65A9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79280" y="1767960"/>
            <a:ext cx="7769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6C6F-FCA1-48E3-9BFC-D59BC241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9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A110-A0E6-4BB1-8244-F2945DC3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A84B-D7A1-40DC-B00E-CA90CF96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2832-A358-413D-9717-E1CC596E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35280" y="301680"/>
            <a:ext cx="6150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AAD9-6E36-4095-AFAF-9B7028D0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7928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6743-AD22-4856-BB55-7D1A05D0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280" y="1767960"/>
            <a:ext cx="7769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F25-66C2-42E0-80BE-A2658EC9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6052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BC0F-63A7-4C85-AF95-86DF3E66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79280" y="3755880"/>
            <a:ext cx="7769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2DB8-A839-4493-A747-ACAE9461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9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79280" y="3755880"/>
            <a:ext cx="7769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BC0D-185F-4EC4-9988-26BFE2F4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7928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6052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648A-C2DB-4FF3-B279-B2B4CCD5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5840" y="176796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2760" y="176796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79280" y="375588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5840" y="375588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2760" y="375588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2F05-9E9A-4E44-B62B-8396AD60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955CB-8B9D-463D-A45C-43C10487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79280" y="1767960"/>
            <a:ext cx="7769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50DF4-2990-4830-BF40-BE0B6CB0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9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C9AFF-A3AC-4888-8247-7AADD11F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174A5-FC74-4770-9131-D9545AA8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CA299-1E1A-4302-8EBB-DE8244F8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9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EC7-AF4B-4A7A-8B18-03111DB0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635280" y="301680"/>
            <a:ext cx="6150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03341-736C-435F-B6C0-6DBA1E40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7928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1BB0E-5AB8-4953-A7AB-A357A215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6052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66A53-253F-4FA7-9B52-00A52312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79280" y="3755880"/>
            <a:ext cx="7769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57C64-9371-4A4F-8B69-01278CF1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9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79280" y="3755880"/>
            <a:ext cx="7769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9770F-CBDC-433A-B52D-47AFBA54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7928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6052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F094B-F7C0-4B4C-9525-68F5809D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5840" y="176796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232760" y="176796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79280" y="375588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05840" y="375588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232760" y="375588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7F6C5-34C8-48AB-97BE-3664DA4B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8692-DC25-4B2F-836E-47D15E00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476-B46E-4DEF-87E4-6EE4950D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5280" y="301680"/>
            <a:ext cx="6150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64B-FD14-4CF8-9B46-C3DD4B13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28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08CB-00CF-4CDC-8E83-1964C08E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6052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96F-CF16-441C-A128-31A8C44D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280" y="3755880"/>
            <a:ext cx="7769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35BE-82E0-4475-A940-1EB42C29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43874-92D8-4A21-AA6A-F2B033EE51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A59BF-76A8-499E-A3EF-E27ED8567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79280" y="1767960"/>
            <a:ext cx="7769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763280" y="6094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203360" y="670680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515360" y="670680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5AB70-B199-4B6C-94B8-E5736E2BFE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german.about.com/library/blbraeuche.htm" TargetMode="External"/><Relationship Id="rId3" Type="http://schemas.openxmlformats.org/officeDocument/2006/relationships/hyperlink" Target="http://www.mapsofworld.com/world-top-ten/world-top-ten-feature-film-production-map.html" TargetMode="External"/><Relationship Id="rId4" Type="http://schemas.openxmlformats.org/officeDocument/2006/relationships/hyperlink" Target="http://www.myswissalps.com/switzerland/switzerland-language.asp?lang=EN" TargetMode="External"/><Relationship Id="rId5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03280" y="166680"/>
            <a:ext cx="90709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ultural Events in Germany, Austria, Switzer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es Baldeweg-R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34920" y="345600"/>
            <a:ext cx="6156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Answer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7564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-18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and unmarried Swiss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53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Work sited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828800" y="1828440"/>
            <a:ext cx="777240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german.about.com/library/blbraeuch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mapsofworld.com/world-top-ten/world-top-ten-feature-film-production-map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myswissalps.com/switzerland/switzerland-language.asp?lang=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German Cultural Event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 fontScale="99000"/>
          </a:bodyPr>
          <a:p>
            <a:pPr lvl="1" marL="84852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716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71388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erlinale Film Festiv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t is one of the world's leading film festiv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716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71388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ctoberf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is a 16-18 day beer festival held yearly in Muni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716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71388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ove Parad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called the "world's largest techno music festival and free party.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716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71388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sides techno music, there is also usually a lot of nudity, free spirited sexual adventures in public places and quite a bit of "general-purpose partying.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716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71388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rankfurt's Book Fai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is the world's largest trade fair for book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85716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71388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85716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71388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85716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34920" y="345960"/>
            <a:ext cx="6154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erlinale Film Festival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7773840" cy="5370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00400" y="1600200"/>
            <a:ext cx="5257800" cy="502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30640" y="2362320"/>
            <a:ext cx="3638520" cy="3743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230640" y="2362320"/>
            <a:ext cx="36385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Oktoberfest in Munich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907092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34920" y="290520"/>
            <a:ext cx="6156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Austrian Cultural Event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Vienna New Years Concert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Vienna Philharmonic plays concert of classical music each year on New Ye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arcissus Festiva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gest flower parade in Austr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"All Saint′s Day"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kes place on October 31st as day to commemorate the de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rampustag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day on which young man dress up in fur, devi′s masks and get oxen tails and bundles of branches as weap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"Glöckler"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Young men dressed up in white trousers and dress with large crest-hat decorations that are lit up from the inside and they walk from one door to another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34920" y="290520"/>
            <a:ext cx="6156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The Vienna New Years Concer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389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6858000" cy="4343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906640" y="2157480"/>
            <a:ext cx="428616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Swiss Cultural Event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606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lvesterkläu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y wear masks and costumes with huge cowbells back and front and carry enormous headdresses depicting typical local sce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schäggätta tradi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oung unmarried men and boys roam the streets of the villages of the valley, wearing demonic masks and tunics made of goat sk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hseläuten festival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clude the burning of an effigy known as the Böögg and a parade of childr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ästeilet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wners of cheese producing cows hold a ceremony at which they share their cheese with one anothe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Sechseläuten Festival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389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6858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34920" y="345600"/>
            <a:ext cx="6156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Quiz Question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7564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how many days does Oktoberfest last for in Muni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chäggätta tradition what type of people are wearing demon masks and goat sk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5:48:02Z</dcterms:created>
  <dc:creator/>
  <dc:description/>
  <dc:language>en-US</dc:language>
  <cp:lastModifiedBy/>
  <cp:lastPrinted>2011-11-07T02:10:19Z</cp:lastPrinted>
  <cp:revision>1</cp:revision>
  <dc:subject/>
  <dc:title/>
</cp:coreProperties>
</file>